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D894-46E5-4767-B45E-D9C736F7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7658-8648-42AA-91D2-07392A19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AA4-45AE-4DE8-B292-34E456A3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CBB1-3EB6-464C-A31B-D2BBF187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A04C-618B-4D41-B8B6-7BFBA2DD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441-AB0A-42C2-A5AF-94644E40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DE1-534A-4BA0-9239-AA8D34A4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7B9-65FA-4CF8-823A-6773A240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50B-9688-4D65-B1F7-695B74C3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ABD-63FC-4D11-A326-431042C2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5D3-6878-46EE-BE55-1A29583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3BA-189F-4143-BB4E-E86BF11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035-8351-46FD-856F-6EEF6AB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FFF-37EE-4856-9AA5-651400C5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3EE-98F8-411F-B4CA-93AAC3F7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CD6-5831-401E-90AB-86EB7807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435-7EF5-4259-AF71-EE63368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B54-A04A-435A-971B-45E5E63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0525-1252-4FA2-9C24-28DA0F4D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2286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x by Carl Sandburg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sunset reaches and qu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9680" y="327672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515280" y="6019920"/>
            <a:ext cx="2514600" cy="666720"/>
          </a:xfrm>
          <a:custGeom>
            <a:avLst/>
            <a:gdLst>
              <a:gd name="textAreaLeft" fmla="*/ 43200 w 2514600"/>
              <a:gd name="textAreaRight" fmla="*/ 2471400 w 251460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81434" h="21600">
                <a:moveTo>
                  <a:pt x="0" y="0"/>
                </a:moveTo>
                <a:lnTo>
                  <a:pt x="81434" y="0"/>
                </a:lnTo>
                <a:lnTo>
                  <a:pt x="81434" y="21600"/>
                </a:lnTo>
                <a:lnTo>
                  <a:pt x="0" y="21600"/>
                </a:lnTo>
                <a:close/>
              </a:path>
              <a:path fill="lightenLess" w="81434" h="21600">
                <a:moveTo>
                  <a:pt x="0" y="0"/>
                </a:moveTo>
                <a:lnTo>
                  <a:pt x="81434" y="0"/>
                </a:lnTo>
                <a:lnTo>
                  <a:pt x="80034" y="1400"/>
                </a:lnTo>
                <a:lnTo>
                  <a:pt x="1400" y="1400"/>
                </a:lnTo>
                <a:close/>
              </a:path>
              <a:path fill="darken" w="81434" h="21600">
                <a:moveTo>
                  <a:pt x="81434" y="0"/>
                </a:moveTo>
                <a:lnTo>
                  <a:pt x="81434" y="21600"/>
                </a:lnTo>
                <a:lnTo>
                  <a:pt x="80034" y="20200"/>
                </a:lnTo>
                <a:lnTo>
                  <a:pt x="80034" y="1400"/>
                </a:lnTo>
                <a:close/>
              </a:path>
              <a:path fill="darkenLess" w="81434" h="21600">
                <a:moveTo>
                  <a:pt x="81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034" y="20200"/>
                </a:lnTo>
                <a:close/>
              </a:path>
              <a:path fill="lighten" w="81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8600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SAND of the sea runs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Where the sunset reaches and qu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Sand of the sea runs yel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Where the moon slants and wavers.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67400" y="6505560"/>
            <a:ext cx="50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Lucida Sans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Pj04011650000[1]"/>
          <p:cNvPicPr/>
          <p:nvPr/>
        </p:nvPicPr>
        <p:blipFill>
          <a:blip r:embed="rId1"/>
          <a:stretch/>
        </p:blipFill>
        <p:spPr>
          <a:xfrm>
            <a:off x="6013440" y="307800"/>
            <a:ext cx="2590920" cy="2267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6"/>
          <p:cNvSpPr/>
          <p:nvPr/>
        </p:nvSpPr>
        <p:spPr>
          <a:xfrm>
            <a:off x="1066680" y="5486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Sans"/>
              </a:rPr>
              <a:t>Sound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929880" y="83772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oudy Stout"/>
              </a:rPr>
              <a:t>Flux 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Lucida Sans"/>
              </a:rPr>
              <a:t>  </a:t>
            </a:r>
            <a:r>
              <a:rPr b="1" lang="en-US" sz="1200" spc="-1" strike="noStrike">
                <a:solidFill>
                  <a:srgbClr val="ff3300"/>
                </a:solidFill>
                <a:latin typeface="Lucida Sans"/>
              </a:rPr>
              <a:t>by Carl Sand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"/>
          <p:cNvPicPr/>
          <p:nvPr/>
        </p:nvPicPr>
        <p:blipFill>
          <a:blip r:embed="rId2"/>
          <a:stretch/>
        </p:blipFill>
        <p:spPr>
          <a:xfrm>
            <a:off x="609480" y="5508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1"/>
          <p:cNvSpPr/>
          <p:nvPr/>
        </p:nvSpPr>
        <p:spPr>
          <a:xfrm>
            <a:off x="1066680" y="60199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Sans"/>
              </a:rPr>
              <a:t>Video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8"/>
          <p:cNvSpPr/>
          <p:nvPr/>
        </p:nvSpPr>
        <p:spPr>
          <a:xfrm>
            <a:off x="6877080" y="5943600"/>
            <a:ext cx="2038320" cy="457200"/>
          </a:xfrm>
          <a:custGeom>
            <a:avLst/>
            <a:gdLst>
              <a:gd name="textAreaLeft" fmla="*/ 29520 w 2038320"/>
              <a:gd name="textAreaRight" fmla="*/ 2008800 w 2038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6240" h="21600">
                <a:moveTo>
                  <a:pt x="0" y="0"/>
                </a:moveTo>
                <a:lnTo>
                  <a:pt x="96240" y="0"/>
                </a:lnTo>
                <a:lnTo>
                  <a:pt x="96240" y="21600"/>
                </a:lnTo>
                <a:lnTo>
                  <a:pt x="0" y="21600"/>
                </a:lnTo>
                <a:close/>
              </a:path>
              <a:path fill="lightenLess" w="96240" h="21600">
                <a:moveTo>
                  <a:pt x="0" y="0"/>
                </a:moveTo>
                <a:lnTo>
                  <a:pt x="96240" y="0"/>
                </a:lnTo>
                <a:lnTo>
                  <a:pt x="94840" y="1400"/>
                </a:lnTo>
                <a:lnTo>
                  <a:pt x="1400" y="1400"/>
                </a:lnTo>
                <a:close/>
              </a:path>
              <a:path fill="darken" w="96240" h="21600">
                <a:moveTo>
                  <a:pt x="96240" y="0"/>
                </a:moveTo>
                <a:lnTo>
                  <a:pt x="96240" y="21600"/>
                </a:lnTo>
                <a:lnTo>
                  <a:pt x="94840" y="20200"/>
                </a:lnTo>
                <a:lnTo>
                  <a:pt x="94840" y="1400"/>
                </a:lnTo>
                <a:close/>
              </a:path>
              <a:path fill="darkenLess" w="96240" h="21600">
                <a:moveTo>
                  <a:pt x="96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840" y="20200"/>
                </a:lnTo>
                <a:close/>
              </a:path>
              <a:path fill="lighten" w="96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9"/>
          <p:cNvSpPr/>
          <p:nvPr/>
        </p:nvSpPr>
        <p:spPr>
          <a:xfrm>
            <a:off x="5335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7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2895480" y="457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Flux=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31120" y="64911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Video courtesy of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6877080" y="6191280"/>
            <a:ext cx="2038320" cy="457200"/>
          </a:xfrm>
          <a:custGeom>
            <a:avLst/>
            <a:gdLst>
              <a:gd name="textAreaLeft" fmla="*/ 29520 w 2038320"/>
              <a:gd name="textAreaRight" fmla="*/ 2008800 w 2038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6240" h="21600">
                <a:moveTo>
                  <a:pt x="0" y="0"/>
                </a:moveTo>
                <a:lnTo>
                  <a:pt x="96240" y="0"/>
                </a:lnTo>
                <a:lnTo>
                  <a:pt x="96240" y="21600"/>
                </a:lnTo>
                <a:lnTo>
                  <a:pt x="0" y="21600"/>
                </a:lnTo>
                <a:close/>
              </a:path>
              <a:path fill="lightenLess" w="96240" h="21600">
                <a:moveTo>
                  <a:pt x="0" y="0"/>
                </a:moveTo>
                <a:lnTo>
                  <a:pt x="96240" y="0"/>
                </a:lnTo>
                <a:lnTo>
                  <a:pt x="94840" y="1400"/>
                </a:lnTo>
                <a:lnTo>
                  <a:pt x="1400" y="1400"/>
                </a:lnTo>
                <a:close/>
              </a:path>
              <a:path fill="darken" w="96240" h="21600">
                <a:moveTo>
                  <a:pt x="96240" y="0"/>
                </a:moveTo>
                <a:lnTo>
                  <a:pt x="96240" y="21600"/>
                </a:lnTo>
                <a:lnTo>
                  <a:pt x="94840" y="20200"/>
                </a:lnTo>
                <a:lnTo>
                  <a:pt x="94840" y="1400"/>
                </a:lnTo>
                <a:close/>
              </a:path>
              <a:path fill="darkenLess" w="96240" h="21600">
                <a:moveTo>
                  <a:pt x="96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840" y="20200"/>
                </a:lnTo>
                <a:close/>
              </a:path>
              <a:path fill="lighten" w="96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>
            <a:hlinkClick r:id="" action="ppaction://hlinkshowjump?jump=previousslide"/>
          </p:cNvPr>
          <p:cNvSpPr/>
          <p:nvPr/>
        </p:nvSpPr>
        <p:spPr>
          <a:xfrm>
            <a:off x="5867280" y="619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7" descr="moon_animation.gif"/>
          <p:cNvPicPr/>
          <p:nvPr/>
        </p:nvPicPr>
        <p:blipFill>
          <a:blip r:embed="rId1"/>
          <a:stretch/>
        </p:blipFill>
        <p:spPr>
          <a:xfrm>
            <a:off x="3048120" y="1676520"/>
            <a:ext cx="304776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2743200" y="51055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For this sample, the moon video has been converted to an animated .gif. To view the movie, play the Slide Show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MCj02507900000[1]"/>
          <p:cNvPicPr/>
          <p:nvPr/>
        </p:nvPicPr>
        <p:blipFill>
          <a:blip r:embed="rId1"/>
          <a:stretch/>
        </p:blipFill>
        <p:spPr>
          <a:xfrm>
            <a:off x="304920" y="380880"/>
            <a:ext cx="2904840" cy="197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4960" y="1143000"/>
            <a:ext cx="4902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sunset reaches and qu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397160" y="6248520"/>
            <a:ext cx="51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"/>
          <p:cNvPicPr/>
          <p:nvPr/>
        </p:nvPicPr>
        <p:blipFill>
          <a:blip r:embed="rId2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5"/>
          <p:cNvSpPr/>
          <p:nvPr/>
        </p:nvSpPr>
        <p:spPr>
          <a:xfrm>
            <a:off x="6858000" y="61722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34604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sunset reaches and qu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181480" y="281952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819520" y="4724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4d4d4d"/>
                </a:solidFill>
                <a:latin typeface="Arial"/>
              </a:rPr>
              <a:t>Flu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783800" y="63244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3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2">
            <a:hlinkClick r:id="" action="ppaction://hlinkshowjump?jump=endshow"/>
          </p:cNvPr>
          <p:cNvSpPr/>
          <p:nvPr/>
        </p:nvSpPr>
        <p:spPr>
          <a:xfrm>
            <a:off x="8001000" y="61912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003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7:04:45Z</dcterms:created>
  <dc:creator>SchoolKiT</dc:creator>
  <dc:description>© 2005-2007 SchoolKiT.com Inc.
This template is a component of a SchoolKiT product and may only be used under license. For more information visit: www.schoolkit.com.</dc:description>
  <cp:keywords/>
  <dc:language>en-US</dc:language>
  <cp:lastModifiedBy>Lezie</cp:lastModifiedBy>
  <dcterms:modified xsi:type="dcterms:W3CDTF">2010-05-25T12:46:37Z</dcterms:modified>
  <cp:revision>55</cp:revision>
  <dc:subject>SchoolKiT</dc:subject>
  <dc:title>Poetry in Motion Sample</dc:title>
</cp:coreProperties>
</file>